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401904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0190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5139E4-4FCE-4EFD-A77D-F3611198B6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E228EEA-6E4E-448F-8777-374ABD3F44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rtfolie mit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40" y="395280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210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3740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0892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4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3740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20892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7800" y="747720"/>
            <a:ext cx="86774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10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240" y="395280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10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740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0892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624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740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0892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7800" y="747720"/>
            <a:ext cx="86774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210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240" y="395280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210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740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08920" y="133344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624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740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08920" y="3952800"/>
            <a:ext cx="292464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7800" y="747720"/>
            <a:ext cx="86774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21040" y="395280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040" y="1333440"/>
            <a:ext cx="44326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40" y="3952800"/>
            <a:ext cx="9083880" cy="239184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uka.bi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KUKA_rgb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974880" y="2635200"/>
            <a:ext cx="7197480" cy="12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>
            <a:hlinkClick r:id="rId2"/>
          </p:cNvPr>
          <p:cNvSpPr/>
          <p:nvPr/>
        </p:nvSpPr>
        <p:spPr>
          <a:xfrm>
            <a:off x="4090320" y="6648480"/>
            <a:ext cx="93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7300"/>
                </a:solidFill>
                <a:latin typeface="Arial"/>
              </a:rPr>
              <a:t>www.kuka-robotics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marL="182520" indent="-182520">
              <a:spcBef>
                <a:spcPts val="1199"/>
              </a:spcBef>
              <a:buClr>
                <a:srgbClr val="ff7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69920">
              <a:spcBef>
                <a:spcPts val="1199"/>
              </a:spcBef>
              <a:buClr>
                <a:srgbClr val="ff7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2520">
              <a:spcBef>
                <a:spcPts val="1199"/>
              </a:spcBef>
              <a:buClr>
                <a:srgbClr val="ff7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54240" indent="-36036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7400" indent="-1792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7400" indent="-1792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7400" indent="-1792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10"/>
          <p:cNvSpPr/>
          <p:nvPr/>
        </p:nvSpPr>
        <p:spPr>
          <a:xfrm>
            <a:off x="0" y="72720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24"/>
          <p:cNvSpPr/>
          <p:nvPr/>
        </p:nvSpPr>
        <p:spPr>
          <a:xfrm>
            <a:off x="19080" y="642636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5"/>
          <p:cNvGrpSpPr/>
          <p:nvPr/>
        </p:nvGrpSpPr>
        <p:grpSpPr>
          <a:xfrm>
            <a:off x="6805440" y="6645240"/>
            <a:ext cx="2340000" cy="216000"/>
            <a:chOff x="6805440" y="6645240"/>
            <a:chExt cx="2340000" cy="216000"/>
          </a:xfrm>
        </p:grpSpPr>
        <p:sp>
          <p:nvSpPr>
            <p:cNvPr id="43" name="Rectangle 26"/>
            <p:cNvSpPr/>
            <p:nvPr/>
          </p:nvSpPr>
          <p:spPr>
            <a:xfrm>
              <a:off x="7237440" y="6645240"/>
              <a:ext cx="190800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7"/>
            <p:cNvSpPr/>
            <p:nvPr/>
          </p:nvSpPr>
          <p:spPr>
            <a:xfrm>
              <a:off x="6805440" y="6645240"/>
              <a:ext cx="216000" cy="216000"/>
            </a:xfrm>
            <a:prstGeom prst="rect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8" descr="KUKA_rgb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7237440" y="358920"/>
            <a:ext cx="1619280" cy="27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0" y="642636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6805440" y="6645240"/>
            <a:ext cx="2340000" cy="216000"/>
            <a:chOff x="6805440" y="6645240"/>
            <a:chExt cx="2340000" cy="216000"/>
          </a:xfrm>
        </p:grpSpPr>
        <p:sp>
          <p:nvSpPr>
            <p:cNvPr id="84" name="Rectangle 6"/>
            <p:cNvSpPr/>
            <p:nvPr/>
          </p:nvSpPr>
          <p:spPr>
            <a:xfrm>
              <a:off x="7237440" y="6645240"/>
              <a:ext cx="190800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6805440" y="6645240"/>
              <a:ext cx="216000" cy="216000"/>
            </a:xfrm>
            <a:prstGeom prst="rect">
              <a:avLst/>
            </a:pr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8"/>
          <p:cNvSpPr/>
          <p:nvPr/>
        </p:nvSpPr>
        <p:spPr>
          <a:xfrm>
            <a:off x="1440" y="90972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KUKA_rgb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7440" y="358920"/>
            <a:ext cx="1619280" cy="276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7800" y="747720"/>
            <a:ext cx="867744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240" y="1333440"/>
            <a:ext cx="9083880" cy="50148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marL="182520" indent="-182520">
              <a:spcBef>
                <a:spcPts val="1199"/>
              </a:spcBef>
              <a:buClr>
                <a:srgbClr val="ff7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69920">
              <a:spcBef>
                <a:spcPts val="1199"/>
              </a:spcBef>
              <a:buClr>
                <a:srgbClr val="ff7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182520">
              <a:spcBef>
                <a:spcPts val="1199"/>
              </a:spcBef>
              <a:buClr>
                <a:srgbClr val="ff7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54240" indent="-36036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7400" indent="-1792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7400" indent="-1792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7400" indent="-1792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798120"/>
            <a:ext cx="9083520" cy="585468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marL="18252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298440" y="878040"/>
            <a:ext cx="857736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Szövegdoboz 4"/>
          <p:cNvSpPr/>
          <p:nvPr/>
        </p:nvSpPr>
        <p:spPr>
          <a:xfrm>
            <a:off x="21960" y="345960"/>
            <a:ext cx="42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Létszámadatok Füzesgyarmaton 2014-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zövegdoboz 4"/>
          <p:cNvSpPr/>
          <p:nvPr/>
        </p:nvSpPr>
        <p:spPr>
          <a:xfrm>
            <a:off x="45360" y="147600"/>
            <a:ext cx="634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oglalkoztatott munkavállalók lakóhely szerinti megoszlása (fő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2008-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8"/>
          <p:cNvSpPr/>
          <p:nvPr/>
        </p:nvSpPr>
        <p:spPr>
          <a:xfrm>
            <a:off x="48600" y="3625920"/>
            <a:ext cx="69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oglalkoztatott munkavállalók nem szerinti megoszlása (fő) 2008-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artalom helye 2" descr=""/>
          <p:cNvPicPr/>
          <p:nvPr/>
        </p:nvPicPr>
        <p:blipFill>
          <a:blip r:embed="rId1"/>
          <a:stretch/>
        </p:blipFill>
        <p:spPr>
          <a:xfrm>
            <a:off x="-6480" y="738360"/>
            <a:ext cx="9156960" cy="2766960"/>
          </a:xfrm>
          <a:prstGeom prst="rect">
            <a:avLst/>
          </a:prstGeom>
          <a:ln w="0">
            <a:noFill/>
          </a:ln>
        </p:spPr>
      </p:pic>
      <p:pic>
        <p:nvPicPr>
          <p:cNvPr id="139" name="Diagram 5" descr=""/>
          <p:cNvPicPr/>
          <p:nvPr/>
        </p:nvPicPr>
        <p:blipFill>
          <a:blip r:embed="rId2"/>
          <a:stretch/>
        </p:blipFill>
        <p:spPr>
          <a:xfrm>
            <a:off x="-6480" y="3913200"/>
            <a:ext cx="9156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artalom helye 2" descr=""/>
          <p:cNvPicPr/>
          <p:nvPr/>
        </p:nvPicPr>
        <p:blipFill>
          <a:blip r:embed="rId1"/>
          <a:stretch/>
        </p:blipFill>
        <p:spPr>
          <a:xfrm>
            <a:off x="60480" y="738360"/>
            <a:ext cx="8583480" cy="2663640"/>
          </a:xfrm>
          <a:prstGeom prst="rect">
            <a:avLst/>
          </a:prstGeom>
          <a:ln w="0">
            <a:noFill/>
          </a:ln>
        </p:spPr>
      </p:pic>
      <p:sp>
        <p:nvSpPr>
          <p:cNvPr id="141" name="Szövegdoboz 4"/>
          <p:cNvSpPr/>
          <p:nvPr/>
        </p:nvSpPr>
        <p:spPr>
          <a:xfrm>
            <a:off x="34200" y="316080"/>
            <a:ext cx="50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Életkor és nemek szerinti megoszlás (fő) 2014-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6" descr=""/>
          <p:cNvPicPr/>
          <p:nvPr/>
        </p:nvPicPr>
        <p:blipFill>
          <a:blip r:embed="rId2"/>
          <a:stretch/>
        </p:blipFill>
        <p:spPr>
          <a:xfrm>
            <a:off x="-6480" y="3902040"/>
            <a:ext cx="8998200" cy="2505240"/>
          </a:xfrm>
          <a:prstGeom prst="rect">
            <a:avLst/>
          </a:prstGeom>
          <a:ln w="0">
            <a:noFill/>
          </a:ln>
        </p:spPr>
      </p:pic>
      <p:sp>
        <p:nvSpPr>
          <p:cNvPr id="143" name="Szövegdoboz 3"/>
          <p:cNvSpPr/>
          <p:nvPr/>
        </p:nvSpPr>
        <p:spPr>
          <a:xfrm>
            <a:off x="-3960" y="357660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skolai végzettség szerinti megoszlás (fő) 2014-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1920" y="757080"/>
            <a:ext cx="9083520" cy="5475600"/>
          </a:xfrm>
          <a:prstGeom prst="rect">
            <a:avLst/>
          </a:prstGeom>
          <a:noFill/>
          <a:ln w="0">
            <a:noFill/>
          </a:ln>
        </p:spPr>
        <p:txBody>
          <a:bodyPr lIns="237600" rIns="237600" tIns="158400" bIns="158400" anchor="t">
            <a:normAutofit/>
          </a:bodyPr>
          <a:p>
            <a:pPr marL="18252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6440" y="2890800"/>
          <a:ext cx="8871120" cy="2890800"/>
        </p:xfrm>
        <a:graphic>
          <a:graphicData uri="http://schemas.openxmlformats.org/drawingml/2006/table">
            <a:tbl>
              <a:tblPr/>
              <a:tblGrid>
                <a:gridCol w="2975040"/>
                <a:gridCol w="2192400"/>
                <a:gridCol w="1851120"/>
                <a:gridCol w="1852560"/>
              </a:tblGrid>
              <a:tr h="48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égössz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érkölt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14 11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67 74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81 852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érköltség elhatárol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571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83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403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éb bérköltség elhatárol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259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2 69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431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ság, 13. ha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92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92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égössz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107 941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75 806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83 74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5280" y="1146240"/>
          <a:ext cx="8880480" cy="1019160"/>
        </p:xfrm>
        <a:graphic>
          <a:graphicData uri="http://schemas.openxmlformats.org/drawingml/2006/table">
            <a:tbl>
              <a:tblPr/>
              <a:tblGrid>
                <a:gridCol w="4203720"/>
                <a:gridCol w="4676760"/>
              </a:tblGrid>
              <a:tr h="595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.12.31. </a:t>
                      </a:r>
                      <a:br>
                        <a:rPr sz="1400"/>
                      </a:b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űzési adó bevallás alapj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.03.15.</a:t>
                      </a:r>
                      <a:br>
                        <a:rPr sz="1400"/>
                      </a:b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űzési adó előleg megfizet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24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 374 9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534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Szövegdoboz 11"/>
          <p:cNvSpPr/>
          <p:nvPr/>
        </p:nvSpPr>
        <p:spPr>
          <a:xfrm>
            <a:off x="20880" y="325440"/>
            <a:ext cx="37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helyi iparűzési adó és a bérköltsé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8120" y="777960"/>
          <a:ext cx="8850600" cy="5740200"/>
        </p:xfrm>
        <a:graphic>
          <a:graphicData uri="http://schemas.openxmlformats.org/drawingml/2006/table">
            <a:tbl>
              <a:tblPr/>
              <a:tblGrid>
                <a:gridCol w="2799000"/>
                <a:gridCol w="546120"/>
                <a:gridCol w="1306440"/>
                <a:gridCol w="2033640"/>
                <a:gridCol w="895320"/>
                <a:gridCol w="127008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állít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.szá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y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nzn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zer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-Kredit K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chenyi utca 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1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ák Ká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kóczi utca 6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ák Imréné e.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ó u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eresi Istv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ó utca 6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2 126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-Fire B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ogyi B. út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14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i Iparipark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ság Té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6 759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öldi Csem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i Kastélypark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8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94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lden Pallet Ker.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sártér u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995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ruczi Sán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éke utca 6. II/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áris Endre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 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45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s István horgász-, autós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46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kastély Fogadó-Étte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88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63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team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telep 0416/17 hrs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si-Vill Kereskedelmi 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dõs utca 4/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74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-FA-ÉP Építõipari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ság tér 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77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inege Éva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éke u. 3/C 2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078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ny ABC B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chenyi u. 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0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öldesiné Varga Anita e.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pád u.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6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vács Gábor e.v.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pád u. 3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87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tu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pád u. 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kete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csári István u. 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ándor Gyuláné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67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38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4 02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49" name="Szövegdoboz 2"/>
          <p:cNvSpPr/>
          <p:nvPr/>
        </p:nvSpPr>
        <p:spPr>
          <a:xfrm>
            <a:off x="38160" y="304920"/>
            <a:ext cx="56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zesgyarmati vállalatoknak generált forgalom 2013-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36600" y="882720"/>
          <a:ext cx="8545320" cy="5475240"/>
        </p:xfrm>
        <a:graphic>
          <a:graphicData uri="http://schemas.openxmlformats.org/drawingml/2006/table">
            <a:tbl>
              <a:tblPr/>
              <a:tblGrid>
                <a:gridCol w="2995560"/>
                <a:gridCol w="876240"/>
                <a:gridCol w="1276560"/>
                <a:gridCol w="1549080"/>
                <a:gridCol w="876600"/>
                <a:gridCol w="971280"/>
              </a:tblGrid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állít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.szá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y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nzn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zer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8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-Kredit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chenyi utca 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72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ák Imréné e.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ó u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eresi Istv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ó utca 6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 614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-Fire B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ogyi B. út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i Iparipark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ság Té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 769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öldi Csem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lden Pallet Ker.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sártér u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39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ruczi Sán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éke utca 6. II/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98,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áris Endre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 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54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s István horgász-, autós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2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kastély Fogadó-Étte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88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58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si-Vill Kereskedelmi 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dõs utca 4/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46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inege Éva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éke u. 3/C 2/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60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vács Gábor e.v.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pád u. 3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64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tu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pád u. 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ógy K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ság tér 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63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ándor Gyuláné, ingatlan b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üzesgya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ssuth u. 67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9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2 533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51" name="Szövegdoboz 4"/>
          <p:cNvSpPr/>
          <p:nvPr/>
        </p:nvSpPr>
        <p:spPr>
          <a:xfrm>
            <a:off x="38160" y="304920"/>
            <a:ext cx="56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zesgyarmati vállalatoknak generált forgalom 2014-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églalap 2"/>
          <p:cNvSpPr/>
          <p:nvPr/>
        </p:nvSpPr>
        <p:spPr>
          <a:xfrm>
            <a:off x="3137040" y="1603440"/>
            <a:ext cx="45720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égli Noé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7300"/>
                </a:solidFill>
                <a:latin typeface="Arial"/>
              </a:rPr>
              <a:t>KUKA Robotics Hungária Ipari K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ő út 1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35 Taksony, Hung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 +36 30 457 35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+36 24 501 6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 +36 24 477-03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emiHegli@kuka-robotics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kuka-robotics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28:34Z</dcterms:created>
  <dc:creator>rati</dc:creator>
  <dc:description/>
  <dc:language>en-US</dc:language>
  <cp:lastModifiedBy>Dr_Makai_Sándor</cp:lastModifiedBy>
  <dcterms:modified xsi:type="dcterms:W3CDTF">2014-06-11T12:13:33Z</dcterms:modified>
  <cp:revision>338</cp:revision>
  <dc:subject/>
  <dc:title>1. 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rma">
    <vt:lpwstr>KUKA Roboter</vt:lpwstr>
  </property>
  <property fmtid="{D5CDD505-2E9C-101B-9397-08002B2CF9AE}" pid="3" name="Format">
    <vt:lpwstr/>
  </property>
  <property fmtid="{D5CDD505-2E9C-101B-9397-08002B2CF9AE}" pid="4" name="Kategorie">
    <vt:lpwstr>Vorlagen</vt:lpwstr>
  </property>
  <property fmtid="{D5CDD505-2E9C-101B-9397-08002B2CF9AE}" pid="5" name="Status">
    <vt:lpwstr>Endgültig</vt:lpwstr>
  </property>
  <property fmtid="{D5CDD505-2E9C-101B-9397-08002B2CF9AE}" pid="6" name="Unterkategorie">
    <vt:lpwstr>Variante 1</vt:lpwstr>
  </property>
</Properties>
</file>